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5C9-82B4-4AE1-8959-801CBD0A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5E9-21B3-4E5D-870D-678DC37D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C32-3455-4976-8884-166E70B8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DE2-E019-4C68-A1A5-5973AB58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6C1E-51B2-4B9F-9277-97854D2F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29C4-4D9E-4BF8-B71E-AD000305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D4F3-54C3-45B2-AE32-C8ACAA3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552B-28A8-4E6D-8B65-C5ABDF33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458D-A93D-4E31-B0BD-8E9F3BFC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19D1-7E3C-41A4-95DD-45F58352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7D69-3F99-4EB1-B215-55C2022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12D-5325-45D3-90C4-D9649B1B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BA27-77DA-48BD-9A96-B7504F76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3C96-330C-47B6-A36D-5D3BFC4A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A310-13AD-4900-9CDB-9A360664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3D37-35C4-457A-A1E1-EDDC01D2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EF27-E46E-4A6D-A201-BF4E344D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7AA-01A8-471D-8EBD-7F4A0692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6B6-5582-4B96-8CF4-701C2B10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D31-3F4D-472F-91FA-4668887C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9B1-0598-4968-8EEA-F12AB0B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CCB-9B0D-41B8-B817-7D92C0E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D09-4532-497C-8265-5149B8C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820-3B44-42E5-BC27-653C63A3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F7BD-B247-4B07-9D58-559D53C2C7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7860-F1F5-4F43-AB58-9D66F14739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lectie de desen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609480"/>
            <a:ext cx="609840" cy="152640"/>
          </a:xfrm>
          <a:prstGeom prst="rect">
            <a:avLst/>
          </a:prstGeom>
          <a:solidFill>
            <a:srgbClr val="b6b2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5029200"/>
            <a:ext cx="3429000" cy="99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Showcard Gothic"/>
              </a:rPr>
              <a:t>MADA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33520"/>
            <a:ext cx="838440" cy="152280"/>
          </a:xfrm>
          <a:prstGeom prst="rect">
            <a:avLst/>
          </a:prstGeom>
          <a:solidFill>
            <a:srgbClr val="b6b2b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5170680" cy="3606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5800" y="2514600"/>
            <a:ext cx="6095880" cy="27432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howcard Gothic"/>
              </a:rPr>
              <a:t>COLECTIA ME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howcard Gothic"/>
              </a:rPr>
              <a:t>DE DESE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990720"/>
            <a:ext cx="1447920" cy="304560"/>
          </a:xfrm>
          <a:prstGeom prst="rect">
            <a:avLst/>
          </a:prstGeom>
          <a:solidFill>
            <a:srgbClr val="b6b2b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a m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77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caria mea prefer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924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a arat eu cand sunt tris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2485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o-RO" sz="4000" spc="-1" strike="noStrike">
                <a:solidFill>
                  <a:srgbClr val="000000"/>
                </a:solidFill>
                <a:latin typeface="Comic Sans MS"/>
              </a:rPr>
              <a:t>aşa arat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u </a:t>
            </a:r>
            <a:r>
              <a:rPr b="0" lang="ro-RO" sz="4000" spc="-1" strike="noStrike">
                <a:solidFill>
                  <a:srgbClr val="000000"/>
                </a:solidFill>
                <a:latin typeface="Comic Sans MS"/>
              </a:rPr>
              <a:t> cand sunt vese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6294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REVEDER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057400"/>
            <a:ext cx="6324480" cy="35812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cdb5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66"/>
                </a:solidFill>
                <a:latin typeface="Comic Sans MS"/>
              </a:rPr>
              <a:t>DIPLOMA DE ME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 ACORDA MADALI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EN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ARNICIA SI TALENTUL EI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8.0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647200">
            <a:off x="5184360" y="4662000"/>
            <a:ext cx="1478160" cy="1519200"/>
          </a:xfrm>
          <a:prstGeom prst="rect">
            <a:avLst/>
          </a:prstGeom>
          <a:ln w="1584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5:03:33Z</dcterms:created>
  <dc:creator>curs</dc:creator>
  <dc:description/>
  <dc:language>en-US</dc:language>
  <cp:lastModifiedBy>curs</cp:lastModifiedBy>
  <dcterms:modified xsi:type="dcterms:W3CDTF">2011-02-25T14:46:11Z</dcterms:modified>
  <cp:revision>6</cp:revision>
  <dc:subject/>
  <dc:title>Colectie de desene</dc:title>
</cp:coreProperties>
</file>